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03030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B3E4-C477-45E9-9553-4529DB88D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in. S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5220-FABA-452E-8F01-07EAA62AE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in. rotations: explain strategy, show example,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m/Sara: admit exit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e/Becky: fram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on/Joy: QW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FB4B-F955-4259-BCED-B78053533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in. Sha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5BBD-1123-4975-81A3-778E826FB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in. S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ept. for 30 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B040-BD91-43B2-ADF1-95CBD8E09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in. Bec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FD0E-6875-4466-866A-EF3715DAA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in. A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5ABE-BC48-4AB6-BEBC-6F0174DAD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ED7E-E8B9-4EC3-A4F6-99F124EE9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n. S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FA7B-4B6F-4ED2-872A-FB86E5E61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in. Cole (Kevin Lauridsen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before/after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D03C-838C-4FA9-8F86-B866A4A27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EDA9-F597-4455-BE81-22C8C8D7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2E0D-879D-48CD-8564-BA3791B7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00DA-ACCF-4F82-8E86-13896AAB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C540-13AB-4E63-847A-1D8B7AC9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BF1B-9DEF-44C7-B505-67EDB464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67BB-376F-487E-8662-82C8776E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CB02-6BDD-40D3-B0BD-C3101ECD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5AFE-A7B4-431F-A2E2-5E52D23B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B2D4-F84B-4E90-BE17-5F6771C2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754B-7D18-453B-A460-69E761B7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2EBD-8580-4ECD-B3FC-0A274E88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0A94-2D78-44B7-BEA1-62B02EA6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0303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30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D6CE-950A-4A1B-B536-C136040E10F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e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03030"/>
                </a:solidFill>
                <a:latin typeface="Cambria"/>
              </a:rPr>
              <a:t>Write to Learn</a:t>
            </a:r>
            <a:endParaRPr b="0" lang="en-US" sz="80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an. 16,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765972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03030"/>
                </a:solidFill>
                <a:latin typeface="Cambria"/>
              </a:rPr>
              <a:t>PURPOSES FOR NON-FICTION WRITING</a:t>
            </a:r>
            <a:endParaRPr b="0" lang="en-US" sz="6600" spc="-1" strike="noStrike">
              <a:solidFill>
                <a:srgbClr val="30303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52280" y="0"/>
          <a:ext cx="8763120" cy="701028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gag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s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monstrating Understand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5943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: provide all students  with  a nonthreatening opportunity to respon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 engaged in writ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: help students “think” through writing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 process the cont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: produce a product piece that goes through the writing process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 given feedback through rubric with clear proficiency leve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03030"/>
                </a:solidFill>
                <a:latin typeface="Cambria"/>
              </a:rPr>
              <a:t>3 Groups of Strategies</a:t>
            </a:r>
            <a:endParaRPr b="0" lang="en-US" sz="60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1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dmit/Exit slip, Double Entry Journal, MVP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1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riting Frames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ir 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1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ick Write, 12 Word Summar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d 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6201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mbria"/>
              </a:rPr>
              <a:t>Quick Write with Sentence Starter</a:t>
            </a:r>
            <a:endParaRPr b="0" lang="en-US" sz="60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1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 that I have learned about Write to Learn, one question I have i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Cambria"/>
              </a:rPr>
              <a:t>Dept. collaboration time</a:t>
            </a:r>
            <a:endParaRPr b="0" lang="en-US" sz="54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aborate with your peers (common content/grade level) to implement at least one Write to Learn strategy into your cla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trategy will you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you implement it (prompt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ill you implement it (date/class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ng example of student work on Feb. 2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6840" y="228240"/>
            <a:ext cx="7620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10240">
              <a:lnSpc>
                <a:spcPct val="100000"/>
              </a:lnSpc>
              <a:spcBef>
                <a:spcPts val="9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Ma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Scienc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ith Pedersen’s room (348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210240">
              <a:lnSpc>
                <a:spcPct val="100000"/>
              </a:lnSpc>
              <a:spcBef>
                <a:spcPts val="9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tura MT Script Capitals"/>
              </a:rPr>
              <a:t>Social Stud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aron Stevens’ room (235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210240">
              <a:lnSpc>
                <a:spcPct val="100000"/>
              </a:lnSpc>
              <a:spcBef>
                <a:spcPts val="9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rint MT Shadow"/>
              </a:rPr>
              <a:t>English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Footlight MT Light"/>
              </a:rPr>
              <a:t>Foreign La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n Baldus’ room (321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210240">
              <a:lnSpc>
                <a:spcPct val="100000"/>
              </a:lnSpc>
              <a:spcBef>
                <a:spcPts val="9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Fine/Applied Art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210240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it sli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dep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8240" indent="-21024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in 2 sentences your plan to incorporate one WTL strategy before Feb. 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03030"/>
                </a:solidFill>
                <a:latin typeface="Cambria"/>
              </a:rPr>
              <a:t>Objectives</a:t>
            </a:r>
            <a:endParaRPr b="0" lang="en-US" sz="80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1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reate a purpose for using Write to Learn strategies in the classroo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1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quip teachers with Write to Learn strateg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765972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mbria"/>
              </a:rPr>
              <a:t>ADMIT SLIP</a:t>
            </a:r>
            <a:endParaRPr b="0" lang="en-US" sz="8000" spc="-1" strike="noStrike">
              <a:solidFill>
                <a:srgbClr val="30303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6840" y="457200"/>
            <a:ext cx="762012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0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oose 1 of the following questions to answer.  Use 3 reasons why for suppor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-99720"/>
            <a:ext cx="762012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304560"/>
            <a:ext cx="7620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-22140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ere to include writing in your classroom, how easy would it be to do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2140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ere to include writing in your classroom, what would be the biggest obstacle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2140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asked your students to write in class, what would their reaction be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2140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stated your expectations for writing in your classroom, what would be your top expectation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221400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1800" y="2646360"/>
            <a:ext cx="765972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mbria"/>
              </a:rPr>
              <a:t>WHIP AROUND</a:t>
            </a:r>
            <a:endParaRPr b="0" lang="en-US" sz="8000" spc="-1" strike="noStrike">
              <a:solidFill>
                <a:srgbClr val="30303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03030"/>
                </a:solidFill>
                <a:latin typeface="Cambria"/>
              </a:rPr>
              <a:t>Goal</a:t>
            </a:r>
            <a:endParaRPr b="0" lang="en-US" sz="60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ad010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cross the school year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1199"/>
              </a:spcBef>
              <a:buClr>
                <a:srgbClr val="726056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riting in EVERY classroom EVERY da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99"/>
              </a:spcBef>
              <a:buClr>
                <a:srgbClr val="ad010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mmediate goal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1199"/>
              </a:spcBef>
              <a:buClr>
                <a:srgbClr val="726056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ET STUDENTS WRITING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Cambria"/>
              </a:rPr>
              <a:t>Purpose</a:t>
            </a:r>
            <a:endParaRPr b="0" lang="en-US" sz="54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2952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0/90/90 study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sons for Writ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5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let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double entry jour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700"/>
              </a:spcBef>
              <a:buClr>
                <a:srgbClr val="ac95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column = key ideas from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700"/>
              </a:spcBef>
              <a:buClr>
                <a:srgbClr val="ac95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column = implications for your classroom and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Most Valuable Point (MV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ive One, Get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666880"/>
            <a:ext cx="765972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Cambria"/>
              </a:rPr>
              <a:t>CLASSROOM EXAMPLES</a:t>
            </a:r>
            <a:endParaRPr b="0" lang="en-US" sz="5400" spc="-1" strike="noStrike">
              <a:solidFill>
                <a:srgbClr val="30303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42:20Z</dcterms:created>
  <dc:creator>Curto, Sara</dc:creator>
  <dc:description/>
  <dc:language>en-US</dc:language>
  <cp:lastModifiedBy>Curto, Sara</cp:lastModifiedBy>
  <cp:lastPrinted>2012-01-10T19:42:25Z</cp:lastPrinted>
  <dcterms:modified xsi:type="dcterms:W3CDTF">2012-01-16T18:33:25Z</dcterms:modified>
  <cp:revision>30</cp:revision>
  <dc:subject/>
  <dc:title>Write to Learn</dc:title>
</cp:coreProperties>
</file>